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55932-AA8B-4559-810E-007E3D5B95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E32C8-D57C-4F47-B4E6-AC3DFAF48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46EB8-F0CE-4ED1-8334-0098213E8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B8A-EC94-4263-910F-8E30CDA2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9F6-387F-4C01-91C5-626E62EA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283-BD09-4AF0-B7F1-C8F001A9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71F-726A-4530-A9A6-84EE8E28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D4D-6C10-45FE-B5FA-24D99119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07D-36FD-4CAD-9BC0-7ABA5102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AE0-D130-47B6-8758-C96AC3CB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8F5-4E2D-4AF2-8B7B-37D51797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B98-140B-40DA-8590-F3B32DF3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15C-5ACF-439E-B956-94C21CA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BB7-BDB3-442F-AE41-CE71CC05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A5C-0ABB-4A48-B3C6-FEDD6A4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89D74-5E7B-404F-9A6F-EB9E2DC06F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5CFCD-BD79-4B2A-A7C5-E7C8830CC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35" descr="logo5.jpg"/>
          <p:cNvPicPr/>
          <p:nvPr/>
        </p:nvPicPr>
        <p:blipFill>
          <a:blip r:embed="rId2"/>
          <a:stretch/>
        </p:blipFill>
        <p:spPr>
          <a:xfrm>
            <a:off x="6451560" y="5989680"/>
            <a:ext cx="2657520" cy="8683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20520" y="0"/>
            <a:ext cx="1384560" cy="554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nasa-logo.gif"/>
          <p:cNvPicPr/>
          <p:nvPr/>
        </p:nvPicPr>
        <p:blipFill>
          <a:blip r:embed="rId4"/>
          <a:stretch/>
        </p:blipFill>
        <p:spPr>
          <a:xfrm>
            <a:off x="74520" y="5989680"/>
            <a:ext cx="88920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Menagerie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IP OpenSearch Cli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. Lynnes, NASA/GSF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. Keiser, U. Alabama--Huntsvi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ple Subset Wiz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d to provide a simple user interface to request subsets from any of 10 of the EOSDIS DAA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OpenSearch to determine (behind-the-scenes) which granules match the user’s area and timesp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ent Adoption of Open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mplifies time-to-field new applic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eoff (for now) is richness of search capa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AH Cli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S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lko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OS Coastal Modeling Testb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3/DAT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SA/GSFC Cli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-based Giovan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ple Subset Wiz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4000" y="186840"/>
            <a:ext cx="683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– Satellite Coincident Search Subscription Serv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scs3.tiff"/>
          <p:cNvPicPr/>
          <p:nvPr/>
        </p:nvPicPr>
        <p:blipFill>
          <a:blip r:embed="rId1"/>
          <a:stretch/>
        </p:blipFill>
        <p:spPr>
          <a:xfrm>
            <a:off x="4519440" y="1373040"/>
            <a:ext cx="3832560" cy="4775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57200" y="1900080"/>
            <a:ext cx="351324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ool at the Global Hydrology Resource Center (GHRC) that uses the OpenSearch interface to ECHO’s data broker to provide access to coincident satellite da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570040" y="619272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scs3.nsstc.nasa.gov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 12" descr="Picture 10.png"/>
          <p:cNvPicPr/>
          <p:nvPr/>
        </p:nvPicPr>
        <p:blipFill>
          <a:blip r:embed="rId1"/>
          <a:srcRect l="-26283" t="0" r="-26283" b="0"/>
          <a:stretch/>
        </p:blipFill>
        <p:spPr>
          <a:xfrm>
            <a:off x="173160" y="581040"/>
            <a:ext cx="7130880" cy="3711600"/>
          </a:xfrm>
          <a:prstGeom prst="rect">
            <a:avLst/>
          </a:prstGeom>
          <a:ln w="0">
            <a:noFill/>
          </a:ln>
        </p:spPr>
      </p:pic>
      <p:sp>
        <p:nvSpPr>
          <p:cNvPr id="60" name="Title 1"/>
          <p:cNvSpPr/>
          <p:nvPr/>
        </p:nvSpPr>
        <p:spPr>
          <a:xfrm>
            <a:off x="419040" y="36360"/>
            <a:ext cx="82011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lkoot: Data Search Mo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datasearchresults-save.JPG"/>
          <p:cNvPicPr/>
          <p:nvPr/>
        </p:nvPicPr>
        <p:blipFill>
          <a:blip r:embed="rId2"/>
          <a:stretch/>
        </p:blipFill>
        <p:spPr>
          <a:xfrm>
            <a:off x="4470480" y="2876400"/>
            <a:ext cx="4464000" cy="2694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73160" y="4292640"/>
            <a:ext cx="359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Search interface to GHRC, Mirador, and MOD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Interface for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atial bou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mporal ran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044080" y="6281640"/>
            <a:ext cx="384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iningsolutions.itsc.uah.edu/talkoot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/>
          <p:cNvSpPr/>
          <p:nvPr/>
        </p:nvSpPr>
        <p:spPr>
          <a:xfrm>
            <a:off x="-266760" y="4648320"/>
            <a:ext cx="60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datasearch.jpg"/>
          <p:cNvPicPr/>
          <p:nvPr/>
        </p:nvPicPr>
        <p:blipFill>
          <a:blip r:embed="rId1"/>
          <a:stretch/>
        </p:blipFill>
        <p:spPr>
          <a:xfrm>
            <a:off x="247680" y="693720"/>
            <a:ext cx="5353200" cy="344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ybertoolstdatasearchresults.jpeg"/>
          <p:cNvPicPr/>
          <p:nvPr/>
        </p:nvPicPr>
        <p:blipFill>
          <a:blip r:embed="rId2"/>
          <a:stretch/>
        </p:blipFill>
        <p:spPr>
          <a:xfrm>
            <a:off x="4102200" y="1608120"/>
            <a:ext cx="5041800" cy="3700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90440" y="4665600"/>
            <a:ext cx="5791320" cy="12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Search interface to current Testbed cata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 based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word based filtered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08200" y="69840"/>
            <a:ext cx="7407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OS Coastal Modeling Testbed Data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2770200" y="62992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estbed.sura.org/data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3440" y="128160"/>
            <a:ext cx="69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MAN or Event-Drive Data Delivery (E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ed3.tiff"/>
          <p:cNvPicPr/>
          <p:nvPr/>
        </p:nvPicPr>
        <p:blipFill>
          <a:blip r:embed="rId1"/>
          <a:stretch/>
        </p:blipFill>
        <p:spPr>
          <a:xfrm>
            <a:off x="3022560" y="1658880"/>
            <a:ext cx="5888160" cy="4240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23920" y="1900080"/>
            <a:ext cx="256536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type functionality that utilizes the same OpenSearch service interface to ECHO as SCS3, to support the fulfillment of event-driven data subscri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499480" y="627048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d3dev.itsc.uah.edu/ed3u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35120" y="274680"/>
            <a:ext cx="705168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rador searches for similar non-GES-DISC data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833400" y="558720"/>
            <a:ext cx="6174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8160" y="-360"/>
            <a:ext cx="784548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-Based Giovan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rcRect l="0" t="0" r="545" b="49013"/>
          <a:stretch/>
        </p:blipFill>
        <p:spPr>
          <a:xfrm>
            <a:off x="0" y="2590920"/>
            <a:ext cx="9144000" cy="3579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2131920" y="9604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ty-based Giovanni will allow external organizations to populate and manage their own port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BG uses OpenSearch to search/access non-GES DISC data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0" t="0" r="19408" b="33499"/>
          <a:stretch/>
        </p:blipFill>
        <p:spPr>
          <a:xfrm>
            <a:off x="434880" y="542880"/>
            <a:ext cx="86076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9:00:23Z</dcterms:created>
  <dc:creator>Christopher Lynnes</dc:creator>
  <dc:description/>
  <dc:language>en-US</dc:language>
  <cp:lastModifiedBy>Christopher Lynnes</cp:lastModifiedBy>
  <dcterms:modified xsi:type="dcterms:W3CDTF">2011-07-25T19:00:50Z</dcterms:modified>
  <cp:revision>4</cp:revision>
  <dc:subject/>
  <dc:title>A Menagerie of  ESIP OpenSearch Clients</dc:title>
</cp:coreProperties>
</file>